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4CB2-BCA6-4B54-A157-60D4ECBA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6854-6348-4309-8DB4-A23DDC3A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1F56-EA81-45E1-9D3C-CAFA02B7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5C1-A425-42B2-879E-59A32A72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EB44-ACAE-4575-8B25-95C7A922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E66F-F8E4-4958-8464-1A4EFF87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E228-16B2-42A5-A395-B5C9BFC5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3CD-4E84-4102-B876-46D2BEE3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EE78-51D3-4673-81FD-96C2537A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3CE4-0AEE-4903-A3E1-EEE91499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E52B-318C-4CC1-A300-8C68AA49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26AE-214E-46C3-BC9A-262BB152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8BFA-B7D7-4E65-B794-845C97E294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rapbookpages.com/AuschwitzScrapbook/2005Photos/GasChamberMainCamp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uschwitz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Kim Conners and Cari Codi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533520"/>
            <a:ext cx="2590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514600" cy="1685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05520" y="533520"/>
            <a:ext cx="2819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172200" y="4648320"/>
            <a:ext cx="2590920" cy="181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2286000"/>
            <a:ext cx="2438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hoes that were taken off the dead body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00800" y="649116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649116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655308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unks were prisoners slep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0574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z.about.com/d/history1900s/1/0/-/B/auschwitz19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54100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annefrankguide.com/en-GB/content/gevangenen-auschwitz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When, Where, Who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1942, trains carried Jews by the thous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wiecim, Po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 officers also known as Naz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s, Poles, Soviet prisoners, Jehovah Witnesses, homosexuals, Sinti Roma, later the gyps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553080" y="4876920"/>
            <a:ext cx="1933560" cy="144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629400" y="655308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bluegrassbulletin.typepad.com/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What Happened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1.3 and 1.5 million people murdered in gas cha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90% were J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10% were made up of Poles, Soviet prisoners of war, Sinti Roma, Jehovah Witnesses, homosexuals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4800600"/>
            <a:ext cx="2210040" cy="1473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952880" y="6545160"/>
            <a:ext cx="388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images.google.com/imgres?imgurl=http://www.scrapbookpages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Facts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lit up into three major comple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chwitz I, main Camp or Stamml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chwitz II, or Briken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ed on October 8, 19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the extermination com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chwitz III, or Monowitz, established on May 31, 1942 as a work ca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086600" y="5181480"/>
            <a:ext cx="1444680" cy="1332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705720" y="6629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8.officinedigitali.it/binary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p population 10,9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reputation- torture and mass shoo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bruary 1943 section was established for Gyps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acity of Crematoria was 4,420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2505240" cy="1587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67280" y="6629400"/>
            <a:ext cx="274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stbrendanschool.com/WWII/Holocaus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98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98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98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98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uschwitz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 graves at Auschwi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soners at forced labor in the Siemens factory. Auschwitz camp, Poland, 1940-1944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1981080" cy="1838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Prisoners at forced labor in the Siemens factory. Auschwitz camp, Poland, 1940-1944."/>
          <p:cNvPicPr/>
          <p:nvPr/>
        </p:nvPicPr>
        <p:blipFill>
          <a:blip r:embed="rId2"/>
          <a:stretch/>
        </p:blipFill>
        <p:spPr>
          <a:xfrm>
            <a:off x="1066680" y="4038480"/>
            <a:ext cx="2971800" cy="1963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47920" y="3733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hollow-hill.com/sabina/images/auschwitz-corpses.jp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6400800"/>
            <a:ext cx="304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ushmm.org/lcmedia/photo/lc/image/19/19319a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Prisoners at Auschwitz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icture taken just after the liberation of Auschwitz-Birkenau by the Soviet army in January 1945, shows a group of children wearing concentration camp uniforms behind barbed wire fencing at the cam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Auschwitz"/>
          <p:cNvPicPr/>
          <p:nvPr/>
        </p:nvPicPr>
        <p:blipFill>
          <a:blip r:embed="rId1"/>
          <a:stretch/>
        </p:blipFill>
        <p:spPr>
          <a:xfrm>
            <a:off x="2286000" y="3429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09680" y="632448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i.telegraph.co.uk/telegraph/multimedia/archive/01243/auschwitz_1243899c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locaust Survivors and Remembrance project.”Web.3 Dec 200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http://isurvived .org/AUSCHWITZ Thecamp.html&gt;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orgotten camps,. “Auschwitz-Birkenau.”Jewish virtual library. The american –israeli cooperateive enterprise,web.3 Dec 200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immeram, John C. "Body Disposal at Auschwitz."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uschwitz the Death Cam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15/10/1999. Webmaster @ Holocaust.Hist.org, Web. 8 Dec 2009. &lt;http://www.holocaust-history.org/auschwitz/body-disposal&gt;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5:46:58Z</dcterms:created>
  <dc:creator>30853</dc:creator>
  <dc:description/>
  <dc:language>en-US</dc:language>
  <cp:lastModifiedBy>30853</cp:lastModifiedBy>
  <dcterms:modified xsi:type="dcterms:W3CDTF">2009-12-16T15:42:14Z</dcterms:modified>
  <cp:revision>10</cp:revision>
  <dc:subject/>
  <dc:title>Auschwitz</dc:title>
</cp:coreProperties>
</file>